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627-A60F-4DF4-81C2-9F087340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166-D6F1-4B5E-8A07-1C762BFC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BE0-DA2E-4808-A542-52305171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4F1-3164-409B-B5CE-A893ABAE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DF7-F163-4C98-B2F0-AC46D238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8E0D-367E-425A-8778-71DECBD7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532-B172-4E57-AF10-876CA762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6F9-E738-48B1-92B9-0E9755B0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F8D-A143-43C8-A6A8-2EA94C8E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178-4883-4647-8BFB-3F42B191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24C-FA99-4CD5-9BAB-AC3FE6FD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92B9-C43A-45DE-BC80-7C65A0B2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4B95-665F-4719-9176-543837550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549360"/>
            <a:ext cx="777384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مملكة العربية السعودية </a:t>
            </a:r>
            <a:br>
              <a:rPr sz="3200"/>
            </a:b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إدارة التربية والتعليم بمحافظة ........... </a:t>
            </a:r>
            <a:br>
              <a:rPr sz="3200"/>
            </a:b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مدرسة  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515772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99"/>
                </a:solidFill>
                <a:latin typeface="Arial"/>
              </a:rPr>
              <a:t>تنفيذ مركز مصادر التعل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2565360"/>
            <a:ext cx="78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MCS Jeddah S_U shadow."/>
              </a:rPr>
              <a:t>مرحبا بكم في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MCS Jeddah S_U shadow."/>
              <a:ea typeface="MCS Jeddah S_U shadow.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MCS Jeddah S_U shadow."/>
              </a:rPr>
              <a:t>مسابقة ( ملتقى الضاد)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MCS Jeddah S_U shadow."/>
              <a:ea typeface="MCS Jeddah S_U shadow.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51640" y="333360"/>
            <a:ext cx="1368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0480"/>
            <a:ext cx="777384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- هو بخار الماء الكثيف</a:t>
            </a:r>
            <a:br>
              <a:rPr sz="6000"/>
            </a:b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و يغشى الأرض كالدخان ؟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3300"/>
                </a:solidFill>
                <a:latin typeface="Arial"/>
              </a:rPr>
              <a:t>الضبا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هي وظيفة القلب الأساسية في الجسم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3300"/>
                </a:solidFill>
                <a:latin typeface="Arial"/>
              </a:rPr>
              <a:t>ضــخ الـدم</a:t>
            </a:r>
            <a:r>
              <a:rPr b="0" lang="ar-SA" sz="1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ما هي السورة التي سميت باسم وقت من أوقات الزمن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حـــــ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العملية الأساسية في الحساب و الجبر ؟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ـــــــــر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ينفذ من الاجسـام الشفافة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ـــــــو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عظام الصدر تسمى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لــــو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6:22:47Z</dcterms:created>
  <dc:creator>AAAAAA</dc:creator>
  <dc:description/>
  <dc:language>en-US</dc:language>
  <cp:lastModifiedBy>pcw_mos_24-11-07</cp:lastModifiedBy>
  <dcterms:modified xsi:type="dcterms:W3CDTF">2009-02-09T16:16:33Z</dcterms:modified>
  <cp:revision>4</cp:revision>
  <dc:subject/>
  <dc:title>1- هو بخار الماء الكثيف  و يغشى الأرض كالدخان ؟ </dc:title>
</cp:coreProperties>
</file>